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655-041D-4CFE-A8A8-F873B7C3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98E-6651-4907-9C57-402E27B7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BD6-335F-41C5-94D5-45EA2985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A79-A74F-4A07-911D-1A0B5946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555-AE4B-4CF1-86A8-5D625C81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3C3-2B7A-4F8D-817E-49A3F660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BBC-C777-4C9D-8D15-C59D45B5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641-B617-43F9-8FE5-8D3A022C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DBA-F2DA-4E98-B33C-2BF3D7A5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E4A-19CA-4D56-9FC9-6A524032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70F-3FA5-4090-BAFC-96235164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BDB-E916-4007-B5E9-4D06F126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D1EE-F3ED-4F63-9AD6-C8DFECA0C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ueplanetbiomes.org/world%20biomes.html" TargetMode="External"/><Relationship Id="rId2" Type="http://schemas.openxmlformats.org/officeDocument/2006/relationships/hyperlink" Target="http://www.ucmp.berkeley.edu/exhibits/biomes/index.ph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ampbellriverwhalewatching.com/images/dave_bear.jpg&amp;imgrefurl=http://www.campbellriverwhalewatching.com/grizzly.html&amp;usg=__s8uCEdtvKuoa6Hd0V4-HHwuX5vU=&amp;h=330&amp;w=400&amp;sz=44&amp;hl=en&amp;start=3&amp;zoom=1&amp;itbs=1&amp;tbnid=GDUqJoUJuHwOZM:&amp;tbnh=102&amp;tbnw=124&amp;prev=/images%3Fq%3Dbear%26hl%3Den%26safe%3Dactive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m/imgres?imgurl=http://rlv.zcache.com/wild_bunny_poster-p228016730092921880tdcp_400.jpg&amp;imgrefurl=http://www.shoponline2011.com/m~c-stereo-speakers-headphones~b-11560000~f-259-43431_294299-335133.aspx&amp;usg=__lQOL0-iFbnYOD2h1snYYpwLBldI=&amp;h=400&amp;w=400&amp;sz=29&amp;hl=en&amp;start=7&amp;zoom=1&amp;itbs=1&amp;tbnid=7JSpriB1_3ybMM:&amp;tbnh=124&amp;tbnw=124&amp;prev=/images%3Fq%3Dwild%2Bbunny%26hl%3Den%26safe%3Dactive%26gbv%3D2%26tbs%3Disch: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furcoatstore.com/images/fur-coat-12-250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uhaus 93"/>
              </a:rPr>
              <a:t>Temperate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: Nick Jara, Shannon Dowling, &amp; Cecilia W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167652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verage temperature in Janu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3 types of animals that live in the temperate fo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1 way that humans effect the temperate fore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1 adaptation that the animals developed in the temperate fo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onth has the most rainf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2 layers of soil in the for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lueplanetbiomes.org/world biom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cmp.berkeley.edu/exhibits/biomes/index.ph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encoe Blue Biology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562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y of a Temperate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 forests are woodlands with full leaves.  The trees lose their foliage annuall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il in the forest has two layers, a layer of humus and a layer of clay undernea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cks and streams run though the forest and water f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five layers in the forest.  The tree stratum, small tree layer, shrub layer, herb layer, and then the ground l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s covers a lot of the for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6748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9480" y="1752480"/>
          <a:ext cx="4267080" cy="4381560"/>
        </p:xfrm>
        <a:graphic>
          <a:graphicData uri="http://schemas.openxmlformats.org/drawingml/2006/table">
            <a:tbl>
              <a:tblPr/>
              <a:tblGrid>
                <a:gridCol w="2336760"/>
                <a:gridCol w="969840"/>
                <a:gridCol w="960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1295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                             Temp.    Preci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33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and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305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le, Birch, Oak, Elm and Ash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B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et M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lder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3809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ir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J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c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219320"/>
            <a:ext cx="1752480" cy="14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320040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124080" y="1752480"/>
            <a:ext cx="19558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ations in a Temperate Fo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rrels and Birds started to make nests high in trees away from pred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ammals store up fat for hibernation for the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ils developed long antennae for enhanced sm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1828800"/>
            <a:ext cx="2525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86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use the trees for wood and it destroys many homes for animals/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utants from man-made chemicals run off into the lakes/ri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reduce the human impact by using less paper products and using no chemicals on you lawn or g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2667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 use the trees of the forests for lumber.  Also trees are used to mak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areas of the forest are destroyed for farm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that live in the temperate forest are hunted for food and also for fur for coats and accesso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124080" cy="234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4419720"/>
            <a:ext cx="1920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1:58:25Z</dcterms:created>
  <dc:creator>xpstudent</dc:creator>
  <dc:description/>
  <dc:language>en-US</dc:language>
  <cp:lastModifiedBy>xpstudent</cp:lastModifiedBy>
  <dcterms:modified xsi:type="dcterms:W3CDTF">2010-10-28T12:20:57Z</dcterms:modified>
  <cp:revision>13</cp:revision>
  <dc:subject/>
  <dc:title>Slide 1</dc:title>
</cp:coreProperties>
</file>